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4A6-AE7E-4227-B283-EEECDC01A6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DCC-B355-4FEE-A192-3E9A26A35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d to be with expedition planning and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only for info – not to be taken as a league ta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know there are pockets of very active schools, we need to be aware of these so that those explorers are awarded CS as appropr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D088-D43C-4C8B-97D2-6461EB2B4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go to Gilwell, they just fire it back to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6FC4-DDA6-4C81-A6F0-8EE935A552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er these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questions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flet to hand out with specif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volved in CS a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ership and Nights away are cumu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DA9-2588-4135-9650-FDDA3CB2F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ll / Phys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s and downloads, always ask?  Don’t let people do a section without checking it is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ries, tracking logs, photo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the same activity more than once or for more than one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L modules – must be mentioned in  assessor’s report or by Leader at sign-off on bottom of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te bro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bout making sure that the programme the young person wants to undertake, fulfills expectations, can fill the time required, is not curriculum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vouch for the commitment, progression and learning that the young person has h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D1D8-6524-48A3-AF5F-75AA225C8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c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ain online entry – into leaders management, can only be released to participant when their planners are complete and appr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A1B-79EC-4A02-83F1-CCF219A64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136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56040" y="243792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136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56040" y="4030200"/>
            <a:ext cx="2232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69343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19880" y="403020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1873440"/>
            <a:ext cx="6934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9880" y="2437920"/>
            <a:ext cx="338364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030200"/>
            <a:ext cx="69343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heshirescouts.org.uk/awards.aspx" TargetMode="External"/><Relationship Id="rId2" Type="http://schemas.openxmlformats.org/officeDocument/2006/relationships/hyperlink" Target="http://www.dofe.org/" TargetMode="External"/><Relationship Id="rId3" Type="http://schemas.openxmlformats.org/officeDocument/2006/relationships/hyperlink" Target="http://members.scouts.org.uk/supportresource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4400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Workshop 4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wards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vision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formation and Recor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and dates – explorers or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’s away (canvas or indo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lanced programme/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ofE, OSM, record cards – Who doe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14130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Key differ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6360" y="2133720"/>
            <a:ext cx="693432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can be supervised remo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– fulfil scouting regulations etc, need to be assessed as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– can only be assessed by an accredited assessor to appropriat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QSA expeditions can be planned and approved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Gold expeditions have to be approved by Wild Country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S expeditions can be run from within a unit/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DofE expeditions require assessor to be remote from group a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acts and Fig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2420640"/>
            <a:ext cx="69343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heshir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693 participants in 45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erl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st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&amp;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sey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r 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93432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an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2437920"/>
            <a:ext cx="760896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ct DofE Advisor/County DofE Ad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shire website -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shirescouts.org.uk/awards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fE website –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of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website – DofE is under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S awards come under Badges and 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embers.scouts.org.uk/support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hief Scout awards and D of 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547640" y="2708280"/>
            <a:ext cx="62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ces, Dilemmas and Dropou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the a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we responsible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35280" y="1916280"/>
          <a:ext cx="6095880" cy="42591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ef Scout aw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of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 of Scout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hts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ctivities fro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E 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51" descr="MC900434665[1]"/>
          <p:cNvPicPr/>
          <p:nvPr/>
        </p:nvPicPr>
        <p:blipFill>
          <a:blip r:embed="rId1"/>
          <a:stretch/>
        </p:blipFill>
        <p:spPr>
          <a:xfrm>
            <a:off x="4572000" y="247032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2" descr="MC900434665[1]"/>
          <p:cNvPicPr/>
          <p:nvPr/>
        </p:nvPicPr>
        <p:blipFill>
          <a:blip r:embed="rId2"/>
          <a:stretch/>
        </p:blipFill>
        <p:spPr>
          <a:xfrm>
            <a:off x="4572000" y="2997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3" descr="MC900434665[1]"/>
          <p:cNvPicPr/>
          <p:nvPr/>
        </p:nvPicPr>
        <p:blipFill>
          <a:blip r:embed="rId3"/>
          <a:stretch/>
        </p:blipFill>
        <p:spPr>
          <a:xfrm>
            <a:off x="4572000" y="3500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4" descr="MC900434665[1]"/>
          <p:cNvPicPr/>
          <p:nvPr/>
        </p:nvPicPr>
        <p:blipFill>
          <a:blip r:embed="rId4"/>
          <a:stretch/>
        </p:blipFill>
        <p:spPr>
          <a:xfrm>
            <a:off x="4572000" y="400536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5" descr="MC900434665[1]"/>
          <p:cNvPicPr/>
          <p:nvPr/>
        </p:nvPicPr>
        <p:blipFill>
          <a:blip r:embed="rId5"/>
          <a:stretch/>
        </p:blipFill>
        <p:spPr>
          <a:xfrm>
            <a:off x="4572000" y="4508640"/>
            <a:ext cx="431640" cy="39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6" descr="MC900434665[1]"/>
          <p:cNvPicPr/>
          <p:nvPr/>
        </p:nvPicPr>
        <p:blipFill>
          <a:blip r:embed="rId6"/>
          <a:stretch/>
        </p:blipFill>
        <p:spPr>
          <a:xfrm>
            <a:off x="4572000" y="508464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MC900434665[1]"/>
          <p:cNvPicPr/>
          <p:nvPr/>
        </p:nvPicPr>
        <p:blipFill>
          <a:blip r:embed="rId7"/>
          <a:stretch/>
        </p:blipFill>
        <p:spPr>
          <a:xfrm>
            <a:off x="4572000" y="56610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MC900434665[1]"/>
          <p:cNvPicPr/>
          <p:nvPr/>
        </p:nvPicPr>
        <p:blipFill>
          <a:blip r:embed="rId8"/>
          <a:stretch/>
        </p:blipFill>
        <p:spPr>
          <a:xfrm>
            <a:off x="6659640" y="249228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9" descr="MC900434665[1]"/>
          <p:cNvPicPr/>
          <p:nvPr/>
        </p:nvPicPr>
        <p:blipFill>
          <a:blip r:embed="rId9"/>
          <a:stretch/>
        </p:blipFill>
        <p:spPr>
          <a:xfrm>
            <a:off x="6659640" y="301932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0" descr="MC900434665[1]"/>
          <p:cNvPicPr/>
          <p:nvPr/>
        </p:nvPicPr>
        <p:blipFill>
          <a:blip r:embed="rId10"/>
          <a:stretch/>
        </p:blipFill>
        <p:spPr>
          <a:xfrm>
            <a:off x="6659640" y="3522600"/>
            <a:ext cx="431640" cy="397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1" descr="MC900434665[1]"/>
          <p:cNvPicPr/>
          <p:nvPr/>
        </p:nvPicPr>
        <p:blipFill>
          <a:blip r:embed="rId11"/>
          <a:stretch/>
        </p:blipFill>
        <p:spPr>
          <a:xfrm>
            <a:off x="6659640" y="4027320"/>
            <a:ext cx="431640" cy="397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3"/>
          <p:cNvSpPr/>
          <p:nvPr/>
        </p:nvSpPr>
        <p:spPr>
          <a:xfrm>
            <a:off x="2195640" y="6381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Residential for Gold and Q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ain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out Association membership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ghts Away – </a:t>
            </a:r>
            <a:r>
              <a:rPr b="0" lang="en-GB" sz="2000" spc="-1" strike="noStrike">
                <a:solidFill>
                  <a:srgbClr val="996633"/>
                </a:solidFill>
                <a:latin typeface="Arial"/>
              </a:rPr>
              <a:t>6(4), </a:t>
            </a:r>
            <a:r>
              <a:rPr b="0" lang="en-GB" sz="2000" spc="-1" strike="noStrike">
                <a:solidFill>
                  <a:srgbClr val="7f7f7f"/>
                </a:solidFill>
                <a:latin typeface="Arial"/>
              </a:rPr>
              <a:t>12 (8), </a:t>
            </a:r>
            <a:r>
              <a:rPr b="0" lang="en-GB" sz="2000" spc="-1" strike="noStrike">
                <a:solidFill>
                  <a:srgbClr val="cc9900"/>
                </a:solidFill>
                <a:latin typeface="Arial"/>
              </a:rPr>
              <a:t>18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activities from the IVE list – must be different as you move from Bronze to Silver to G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thing here is record keeping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tional, Values and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560" y="2437920"/>
            <a:ext cx="7705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 is held under Awards/Queen’s Scout A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must be different for each level of the a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ities recorded in many ways – discus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904760"/>
            <a:ext cx="6934320" cy="368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ilemmas!</a:t>
            </a:r>
            <a:br>
              <a:rPr sz="2800"/>
            </a:b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hysical or Skill 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hat is “enough”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ow do we show commitment and progression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L modules and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14842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 who checks on progress and agrees the completion of a section of the program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ssessor can be anyone who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ested in helping a young person to achie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s some knowledge of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be available over the time period requ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MUST be independent and cannot be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 of the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pport for Ass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666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or cards – to explain their role, timing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line entry of reports, voice entry, written &amp;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9051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hat are our responsibilit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920" y="263700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e sections promptly – acknowledg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-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26:03Z</dcterms:created>
  <dc:creator>Office 2004 Test Drive User</dc:creator>
  <dc:description/>
  <dc:language>en-US</dc:language>
  <cp:lastModifiedBy>Hannah Lapworth</cp:lastModifiedBy>
  <dcterms:modified xsi:type="dcterms:W3CDTF">2013-02-27T21:59:45Z</dcterms:modified>
  <cp:revision>180</cp:revision>
  <dc:subject/>
  <dc:title>Your title here</dc:title>
</cp:coreProperties>
</file>